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8815-AF04-45C5-9744-D456C43DC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to go over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slides 18 through 21 with your participants so they know what options they can choose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roject from an exist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eing Reas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ject (slide 18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a new project from scratch (slides 19-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eam IDs with the wizar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specialized team IDs (slide 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ing helps students represent their understanding as they investigate the nature of a problem that requires thinking about cause and eff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example investigates how hurricanes affect people, land, and busines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usal map takes on the visual elements of concept maps, but places explicit meaning on each element in the ma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between the factors depict causal relationships, showing an increase or decrease in the intensity of the effect by the thickness and color of the connecting li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very important to causal mapping because it means students can interpret the map due to its visual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some of the factors on the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E809-672E-4938-9B39-D60066BF2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6F40-E0B6-4FB3-81FC-4DD92E4DA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3A06-6A7A-4860-A209-B73721275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C0D66-DEE5-4573-9543-659DA3252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A87B-239C-4310-92CA-00D49092E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B08DC-B339-4BA4-AD71-A9B3A1029D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674FB-A443-47A8-9E7C-7AE2ABAC12A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A7B61-A4EF-45BF-A813-812C4620CC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9A28-E3CF-44E1-8CD3-8F751E4F40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04AC-6F6B-4F80-AB3D-728E0B8B01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0DF8-0AB8-49E8-93B4-8FBC741F36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385C-EAF4-443E-A229-6FDB0D1875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D302A-B722-44C3-98E8-2E6A788E1A2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54602-E3EB-44A3-85E8-EB24440F5A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F255-4759-49EA-8CE1-EE03FB7F1A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39D52-177C-4F4B-A3DC-A4710A81B0A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EE4EE-547A-47E6-9A5A-D5807443B3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32B52-E370-433B-BD13-E73D1528A6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0D86-9D3D-46A6-9800-766127854CB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1C21A-E211-4F74-A329-B7339AB0CE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48714-F2B8-49F3-A33F-DA9D81916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50247-E84E-4B18-A62A-3349862FA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36D7-B3F4-4DBA-9C4D-38A940E44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06C3-C04D-4B69-8776-1B2FDCFA86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5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56F1-0D81-4F62-B097-ABF376D2F22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2600" y="6548400"/>
            <a:ext cx="7123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0F10-D1AF-4FE4-850C-95D332F46DF8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90720" y="6386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4840" y="2155680"/>
            <a:ext cx="8254800" cy="254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647712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eeingreason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eeingreason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eeingreason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eeingreason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0" y="5460480"/>
            <a:ext cx="87631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Module 7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Cause and Eff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Understanding Cause and Eff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07–7.0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cause explains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wh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mething happe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ffect describes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happe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ecause of X, Y happe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 affects 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X results in 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1BB5-7BD4-48CE-B908-D165DD46D1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Cause and Eff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elping Students Understand Causal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lationships Using the Seeing Reason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09–7.1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Traffic Jam ma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ice the sizes and colors of arro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ew relationships between facto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en the Comments box and view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having students create a practice ma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iewing the Benefits of the Seeing Reason Tool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1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benefits for stud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benefits for teach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56A4-9F1B-4EFE-B93E-9284BE8D25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viewing the Power of the Seeing Reason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o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14–7.17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types of thinking, classified by Costa and Kallick’s Habits of Mind, that can be targeted with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stude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st fac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w relation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estigate and revi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ent find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AD33-1F8C-4A9F-A95D-0DB889D190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derstanding What Makes a Good Projec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17–7.1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stand that a good project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 complex, connected to real-world problem solv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as a meaningful research ques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 influenced by factors that can be measured, observed, or verifi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s interdisciplina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9256-60CC-4F7B-B93B-A078DA7B2C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Viewing Sample Project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1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eeingreaso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lect two or three project examp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te how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s used in each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te your thoughts and ide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itional project examples in Appendix D.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a project that uses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lp to develop students’ thinkin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Thinking About Your Uni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1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rainstorm ideas for effective uses of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r your un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2CF6-F188-423F-BD42-3DA5F6E4F0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4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Seeing Reas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eviewing the Needs of Your Uni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7.20–7.2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“Habits of Learning Taxonomy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standards you identified as ones that could possibly benefit from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 or consider new objectives that could be supported by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f you do not believ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eeing Reas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would be a good fit for your unit, you will have the opportunity to try out an idea for a different unit during this module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8851C-3144-43FC-80E9-D1E12DF87F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iewing Sample Project Descriptions an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search Question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21–7.2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examples for how to write your ow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-Light"/>
              </a:rPr>
              <a:t>For more examples, see ideas starting on Appendix D.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380880" y="33012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400"/>
            </a:b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Seeing Reas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79A3-E73A-418C-83E4-9788F212B8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4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aring Your Idea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2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374760" y="1676520"/>
            <a:ext cx="854064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ideas for a project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ing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as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 feedback on ways to target higher-order thinking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99960">
              <a:lnSpc>
                <a:spcPct val="100000"/>
              </a:lnSpc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99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357D-CB09-41A0-B19E-28B381DCCB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Creating a Seeing Reason project from a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Existing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26–7.27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project wizard to copy an existing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Curriculum-Framing Questions, project priorities, and the Project Reflection Checklist, and then edit the project onli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 the details into your 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steps 2 through 4 to create a new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(see next three slides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4DC3-84B6-445E-869A-02DED6AE12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Creating Your Own Project Description an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Research Questio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7.27–7.2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Unit Plan and 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prioriti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Reflection Check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the Project Description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d Research Question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 your map or type them directly into your Unit Plan Templ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te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se is not appropriate for your unit, us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Idea document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nking Tools, Seeing Reason Tool Resour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0DFD-8D8A-4E09-8C71-5EADBB9D09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Were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914400"/>
          <a:ext cx="8237520" cy="4621320"/>
        </p:xfrm>
        <a:graphic>
          <a:graphicData uri="http://schemas.openxmlformats.org/drawingml/2006/table">
            <a:tbl>
              <a:tblPr/>
              <a:tblGrid>
                <a:gridCol w="1600200"/>
                <a:gridCol w="6637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2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ing Standards-Based Proje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3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ing Curriculum-Framing Questions to Support Think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4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5: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Visual Ranking Tool to Target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ink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5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6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3920" indent="-2224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y out a project idea using the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Ranking Too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3920" indent="-2224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, share, and reflect on a practice rank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3920" indent="-2224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ise your Unit Pl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3920" indent="-222480"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cuss your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Ranking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experie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469800" y="556272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0EB2-19AE-4AC0-B286-29A43960CF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928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Planning Your Use of Seeing Reas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2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the Unit Plan Templ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to the Seeing Reason s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Tit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Descrip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 Ques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your fi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EED6B-6D3F-4E4B-A1BF-291F40790B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Creating a New Seeing Reason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29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eeingr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g in to your Teacher Worksp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a new Seeing Reason project and complete the following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Nam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Descrip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 Questio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D01C-C707-4C82-8222-D8DAF94451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5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Teams IDs with the Project Wizar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3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project wizard to create team I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t least team for the practice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6: Creating Specialized Student Team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3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ter Team IDs individual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ip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rite down your team IDs and password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13D4-BF25-4F8B-B518-536FEA1D828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Summary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3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5760" y="1371600"/>
          <a:ext cx="8237520" cy="314496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7 Key Poi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74608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eing Reason Tool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s useful to investigate multiple influences (factors) that impact other outcomes in a system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actors and relationships in a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eing Reaso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map should b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easur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bserv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erif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BC2D-7514-4C5A-A50A-4E0DC14149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ext Session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8</a:t>
            </a:r>
            <a:br>
              <a:rPr sz="26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ing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Your Uni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practic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usal ma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and practice effective questioning techniqu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 and receive feedback on project idea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ma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Unit Pla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experience us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234E-EF18-45EB-8A3F-933818EC27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5CD7-8993-4B28-BCFB-AECD76C825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7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Seeing Reason Tool to Target Thinking Skill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a unit that integrates the use of the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present causal relationships visual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best uses of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and discuss ideas for incorporat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o your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lop and share a project idea that uses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a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onli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701F-C462-49CB-B6F3-7236954EA5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57200" y="990720"/>
          <a:ext cx="8237520" cy="3216240"/>
        </p:xfrm>
        <a:graphic>
          <a:graphicData uri="http://schemas.openxmlformats.org/drawingml/2006/table">
            <a:tbl>
              <a:tblPr/>
              <a:tblGrid>
                <a:gridCol w="1830240"/>
                <a:gridCol w="6407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8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eeing Reason Tool for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9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0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howing Evidence Tool for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ting 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5863-740B-41BD-A5B0-38743B0135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7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Seeing Reason Tool to Target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nking Skil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90760" y="1828440"/>
            <a:ext cx="47624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Objectiv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view and discuss a unit in depth that integrates the use of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derstand cause and effect and how to represent causal relationships visually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eeing Reason Tool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iew and discuss ideas for incorporating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into unit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velop and share a project idea that uses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eeing Reason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t up a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eeing Reaso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roject online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1600" y="1295280"/>
            <a:ext cx="3836880" cy="47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F362-205F-4207-92BE-C60E22D533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ing at Seeing Reason in Ac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king a Look at Your Seeing Reason Map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01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the Teacher Workspace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eeingr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your most recent ma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maps in your Portfolio to see how your team’s thoughts have progress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id your maps chang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your maps show progression in think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d this cycle of revisiting the maps increase deeper understanding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you see this tool being beneficial in the classroo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F26B-47CC-4C30-9CB8-F90D16BB92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ing at Seeing Reason in Ac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xamining a Unit that Uses Seeing Reaso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7.02–7.0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ore the Ecology Explorers unit in Appendix F.0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ok at how the unit deals with a complex system or cause-and-effect relationship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maps in this unit at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eeingreas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oject Exampl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Unit Plan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878040" indent="-304920"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cology Explorer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1155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3E316-000F-429E-9405-74C8FC4612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Cause and Eff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Understanding Causal Map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7.0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ps help students to visually represent specific measurable or verifiable factors that influence or impact a problem or syste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causal map takes on the visual elements of a concept map, but places explicit meaning on each element of the map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D05A-7CDF-4B03-8B7F-A47FF1784D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116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usal maps have one specific purpose—to visually depict measurable or verifiable factors that </a:t>
            </a:r>
            <a:r>
              <a:rPr b="0" lang="en-US" sz="2000" spc="-1" strike="noStrike">
                <a:solidFill>
                  <a:srgbClr val="a6cae1"/>
                </a:solidFill>
                <a:latin typeface="Verdana"/>
              </a:rPr>
              <a:t>influenc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</a:t>
            </a:r>
            <a:r>
              <a:rPr b="0" lang="en-US" sz="2000" spc="-1" strike="noStrike">
                <a:solidFill>
                  <a:srgbClr val="a6cae1"/>
                </a:solidFill>
                <a:latin typeface="Verdana"/>
              </a:rPr>
              <a:t> impac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 problem or system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hurricanes affect people, land,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siness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7: Using the Seeing Reason Tool to Target Thinking Skills</a:t>
            </a:r>
            <a:br>
              <a:rPr sz="1200"/>
            </a:br>
            <a:br>
              <a:rPr sz="10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Digging Deeper into Cause and Effect</a:t>
            </a:r>
            <a:br>
              <a:rPr sz="22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Understanding Causal Map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inued) – Module 7.06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952880" cy="358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404B2-F6AA-4C73-8B55-6F037EE6FF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Judi Yost</dc:creator>
  <dc:description/>
  <dc:language>en-US</dc:language>
  <cp:lastModifiedBy>lmclampi</cp:lastModifiedBy>
  <dcterms:modified xsi:type="dcterms:W3CDTF">2009-08-09T06:20:08Z</dcterms:modified>
  <cp:revision>901</cp:revision>
  <dc:subject/>
  <dc:title>Slide 1</dc:title>
</cp:coreProperties>
</file>